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5AC03-2EC3-4D8A-98CC-EAC2AD877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B178-4F6D-460F-9B97-92D33E83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85BB4-0740-4608-860D-34C2CA5F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027E0-7C4C-450A-9122-B5664072A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6308B-B12A-4341-B179-892265C17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F44A7-712D-4EF2-B806-C5D26FEC5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86061-F278-46D4-BE01-BC80B78E1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7B614-FC39-4F2A-BA19-8C80E6BDC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CC058-0191-4E9C-B95F-3ADED81A7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29237-EF94-48A0-907C-8B67CA715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F2EB4-FC2A-4059-96B4-B6AFAA326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00CD-7D04-49CE-9030-124CE5985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C41DD-9ED3-426A-9FC1-E91140FEE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51D3D-66C9-4526-9A4F-99AC1DA1F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A14A4-5B09-4161-918F-572CC5726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17473-DC4F-42FE-B5C2-3F76A043B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8AB9E-5D73-4820-8E38-FC8C2E82B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C286-3101-44D7-8E58-C611FE659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4232F-0225-4C51-A6C2-45E72A93C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24A23-3551-4013-876D-31945567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1B1DA-E758-4B80-B9E0-3767855FB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98A2-1AD0-42CA-BF43-40A35ADB7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B37A-D102-45BD-AE3A-7FB9A9AA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3F2D-D7AA-489A-AC35-27FDCE835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E9D1-37E0-40A2-8B9B-49CC96F860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DD8C-1591-4044-AB0E-A67F6AD992A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player.discoveryeducation.com/index.cfm?guidAssetId=800CA676-82D2-4990-888A-DC098663721F&amp;blnFromSearch=1&amp;productcode=US"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hapter 5: Physical Activity &amp; Weight Management</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esson 2: The Circulatory Syste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ELL ACTIVITY – 10/27</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LOOD – What comes to mind when you see this word?</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Transporting Materials Through the Body – p. 123</a:t>
            </a:r>
            <a:endParaRPr b="0" lang="en-US" sz="36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rt of being fit involves having a healthy circulatory system.</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circulatory system is the group of organs and tissues that transport essential materials to body cells and remove their waste products.</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ists of: heart, the blood vessels, and the blood itself.</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other name for it…</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cardiovascular system is another name for the circulatory system.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ardio refers to the heart</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Vascular refers to vessel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5"/>
              </a:rPr>
              <a:t>Welcome to Discovery Education Playe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The three types of blood vessels – p. 123</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heart pumps blood into the arteries.</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Arteries</a:t>
            </a:r>
            <a:r>
              <a:rPr b="1" lang="en-US" sz="2800" spc="-1" strike="noStrike">
                <a:solidFill>
                  <a:srgbClr val="ffff00"/>
                </a:solidFill>
                <a:latin typeface="Arial"/>
              </a:rPr>
              <a:t> – blood vessels that carry blood away from the heart to all parts of the body.</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Capillaries</a:t>
            </a:r>
            <a:r>
              <a:rPr b="1" lang="en-US" sz="2800" spc="-1" strike="noStrike">
                <a:solidFill>
                  <a:srgbClr val="ffff00"/>
                </a:solidFill>
                <a:latin typeface="Arial"/>
              </a:rPr>
              <a:t> – smallest blood vessels, which provide body cells with blood and connect arteries with veins.</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Veins</a:t>
            </a:r>
            <a:r>
              <a:rPr b="1" lang="en-US" sz="2800" spc="-1" strike="noStrike">
                <a:solidFill>
                  <a:srgbClr val="ffff00"/>
                </a:solidFill>
                <a:latin typeface="Arial"/>
              </a:rPr>
              <a:t> – blood vessels that carry blood from all parts of the body back to the hear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ood Pressure</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lood pressure – the force pushing against the walls of the blood vessels.</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A blood pressure reading consists of two numbers, usually written in this way: 120/80.</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The first number is the pressure at its highest point, when the heart contracts and forces blood into the arteries. The second number is the lowest point of pressure, when the heart relaxes to refill with blood.</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ood Types</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t all blood is the same.</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4 types: A, B, AB, and O</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y are classified according to the type of red blood cells they contain.</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ome can be mixed, while others cannot.</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en blood types that are not compatible are mixed, the chemicals in one type of blood clump together and block the blood vessel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lood Types Compatibility, Fig 5.6, p. 126</a:t>
            </a:r>
            <a:endParaRPr b="0" lang="en-US" sz="3600" spc="-1" strike="noStrike">
              <a:solidFill>
                <a:srgbClr val="f7d47d"/>
              </a:solidFill>
              <a:latin typeface="Arial"/>
            </a:endParaRPr>
          </a:p>
        </p:txBody>
      </p:sp>
      <p:pic>
        <p:nvPicPr>
          <p:cNvPr id="207" name="" descr=""/>
          <p:cNvPicPr/>
          <p:nvPr/>
        </p:nvPicPr>
        <p:blipFill>
          <a:blip r:embed="rId1"/>
          <a:stretch/>
        </p:blipFill>
        <p:spPr>
          <a:xfrm>
            <a:off x="228600" y="2133720"/>
            <a:ext cx="7410600" cy="33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osing</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does the circulatory system do?</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ist and define the 3 types of blood vessel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12:42:44Z</dcterms:created>
  <dc:creator>GSCS</dc:creator>
  <dc:description/>
  <dc:language>en-US</dc:language>
  <cp:lastModifiedBy>GSCS</cp:lastModifiedBy>
  <dcterms:modified xsi:type="dcterms:W3CDTF">2010-10-27T19:35:33Z</dcterms:modified>
  <cp:revision>5</cp:revision>
  <dc:subject/>
  <dc:title>Chapter 5: Physical Activity &amp; Weight Management</dc:title>
</cp:coreProperties>
</file>